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8B5-FEEB-4792-A12C-A66B4014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DF8-BC1B-4998-AC30-37EBEEC0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A6A-049C-46CF-9627-2ECFCF6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220-990A-4D02-8644-6BDA2438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9C6-7369-407D-BF99-58D210CA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27B-2F99-45CE-A9F9-C65540AC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6DE-6908-4571-B87A-DB616A1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7D2-ED15-4E5E-BAB4-29BDA850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021-E1D4-427E-8762-93CDD47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C3C-1F21-4100-9E78-07639D2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A7E-98A5-404B-8602-365BF4C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5A1-FB7B-40DC-ADA4-5AD0725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AF6-E6D6-4386-82C7-DCBB1EB6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Forte"/>
              </a:rPr>
              <a:t>La Rutina  de Pep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Forte"/>
              </a:rPr>
              <a:t>Pepe se despierta a las ocho y media pero el no se levanta ensegu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4038480" cy="238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40384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Forte"/>
              </a:rPr>
              <a:t>Pepe se acuesta muy tar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Forte"/>
              </a:rPr>
              <a:t>Pepe no se levanta enseguida porque el se acuesta muy tar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6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Cuando Pepe se Levan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Cuando Pepe se levanta el toma una ducha y se lava el pelo con un champ</a:t>
            </a:r>
            <a:r>
              <a:rPr b="0" lang="en-US" sz="3200" spc="-1" strike="noStrike">
                <a:solidFill>
                  <a:srgbClr val="66ff33"/>
                </a:solidFill>
                <a:latin typeface="Forte"/>
                <a:ea typeface="Arial"/>
              </a:rPr>
              <a:t>ú oloroso. Pepe no se ba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81532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Forte"/>
              </a:rPr>
              <a:t>No se Maquil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Forte"/>
              </a:rPr>
              <a:t>Pepe no se maquilla porque Pepe no es una muchacha, y Pepe no </a:t>
            </a:r>
            <a:r>
              <a:rPr b="0" lang="es-ES" sz="3200" spc="-1" strike="noStrike">
                <a:solidFill>
                  <a:srgbClr val="0099ff"/>
                </a:solidFill>
                <a:latin typeface="Forte"/>
              </a:rPr>
              <a:t>necesita maquillaje. Pepe no se afeita con la navaja h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724280" cy="265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62520" y="3886200"/>
            <a:ext cx="51814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Se pone la ropa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Forte"/>
              </a:rPr>
              <a:t>Después el  se pone la ropa, Pepe se mira en el espejo cuando se pone la rop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Forte"/>
              </a:rPr>
              <a:t>y se cepill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114800" cy="197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3052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Forte"/>
              </a:rPr>
              <a:t>Se peina el pelo.</a:t>
            </a: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Forte"/>
              </a:rPr>
              <a:t>Pepe se peina el pelo. Pepe se mira en el espejo cuando se pe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014640" cy="30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8484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Forte"/>
              </a:rPr>
              <a:t>Pepe toma el desayun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Forte"/>
              </a:rPr>
              <a:t>Pepe se sienta a la mesa. Pepe toma el desayuno. El come el pan tostado y el cereal. Pepe se desayu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3807000"/>
            <a:ext cx="3809880" cy="258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9:12Z</dcterms:created>
  <dc:creator>leaolum</dc:creator>
  <dc:description/>
  <dc:language>en-US</dc:language>
  <cp:lastModifiedBy>leaolum</cp:lastModifiedBy>
  <dcterms:modified xsi:type="dcterms:W3CDTF">2012-04-05T13:06:13Z</dcterms:modified>
  <cp:revision>4</cp:revision>
  <dc:subject/>
  <dc:title>La Rutina  de Pepe!</dc:title>
</cp:coreProperties>
</file>